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png" ContentType="image/png"/>
  <Override PartName="/ppt/media/image14.png" ContentType="image/png"/>
  <Override PartName="/ppt/media/image10.png" ContentType="image/png"/>
  <Override PartName="/ppt/media/image8.jpeg" ContentType="image/jpeg"/>
  <Override PartName="/ppt/media/image5.png" ContentType="image/pn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B230-9A19-47A9-8118-7ED2B53BE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569D-D165-402F-9448-10B43BA5A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87A6-807E-45D6-B7D1-6C9C81032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FD01-AB27-4E8B-991A-8A1C11C2D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73D16-2915-4691-B41A-B8D27A0FD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56B0F-EB0E-4992-BE68-064F466C1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D9199-7886-4D1F-89BF-9E6458372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79961-9016-4F70-B7A0-3E03671E0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B2672-737A-448E-BF7E-6A4E75FCF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9592E-C44E-425A-9CC0-B0D243424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BBCD6-00FB-4741-AF04-3643753DF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6C3B-4B24-4767-846B-9C76CDB42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E0D15-046C-4370-AE34-43573F83A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C3BCF-483B-4FAC-A3EC-C8F73A495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27341-55B7-4CF6-BA99-2E83C7778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354EF-5164-4D76-ABB3-29E96B0EA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55C29-C3EF-43E8-A666-B72DE30C3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99EC1-2473-4A0B-8D21-A88A7B9A1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5974E-F954-4BD5-B68D-DBD8D6560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6B885-DD6B-4D99-B718-B93033BC8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25BCA-3714-4DD9-BECB-01823DEA7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B80B9-ED8B-4C6C-888B-ED7EF3626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9FB3-3AE1-4B09-88F7-7F0344973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2F040-B21A-4228-9CC7-ED64BD868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6B87A-8169-421B-A892-21C37FB19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B2AB1-82BF-42BE-96C7-1850BF619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16460-7EFB-4EB4-AEFB-5F2D761A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CDE3A-35B8-4F71-937B-B28EC69B9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08234-229E-4BA3-9B18-B1B8B5C26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9B444-5F3D-47A9-9A09-860549DBC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08AA0E-41DD-4685-8797-970B22F90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40BC4-E471-4168-9A7F-D619CC1AC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09CA9-3399-4BAE-B9A9-6F2D8B3A3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F128-4380-4538-A60E-6785DB99E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68FF8-1222-457A-B94C-41F8F1109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DDC4CF-2BB6-47FA-9D87-E510B6210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18AD1-2E9A-4E4F-A0A9-3858A4C49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94B92-D153-46E0-BFCF-DCC66042D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07494-D70C-4751-8211-EC2C40F92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A4C55-3B3D-4F5F-A3E1-C5965A0F8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EC1E3-9DAC-4DE5-AAF9-44B8A6D9B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875888-F216-457D-B257-19754B688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D98DA-B775-43A9-8768-2F26AFD2A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92A5-E29C-496B-BB97-6F9A3B59D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7FD2-627C-44D4-8148-EF4C93498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EE4E-234A-4066-9BB8-5527CED16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D015-196D-4857-9383-CF0C1505D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7463-EC8E-45B5-B0C6-13F9CAB7A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24D62-A431-42BD-9963-25C4E41ECCD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562F4-0003-4184-A832-9DA3C9915765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063B0-B730-479E-B40A-7C949102D704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F44FB-9E89-4167-BDB0-83DE116D7A3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rcampus.com/fsitehomeshellc.cfm?id=61947&amp;rt=8&amp;view=&amp;sms=home&amp;xsite=annemancl&amp;nocache=1301267400178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rcampus.com/EPortfoliohomeshellc.cfm?xsite=lcpage11.W69038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603360" y="2090880"/>
            <a:ext cx="7864200" cy="20174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685440" y="449532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iffany Harrel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Walden University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hat is a LMS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560" y="1904760"/>
            <a:ext cx="84582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Learning Management Systems, also known as course management systems, are collaborative learning environments where teachers and students can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ngage within an online community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anage courses and student work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Keep an online portfolio of work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et goals and create assessments using rubric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ommunicate online through websites by students, faculty, and groups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Receive or provide tutoring and support in learning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We have reinvented the educational delivery system with the end user-students- in mind, using tools, content, and teaching strategies that help students develop critical thinking skills, build global awareness, and gain 21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nstantia"/>
              </a:rPr>
              <a:t>st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century skills” (Young, Birtolo, &amp; McElman, 2009)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ommuniti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0" name="Content Placeholder 4" descr="hands.gif"/>
          <p:cNvPicPr/>
          <p:nvPr/>
        </p:nvPicPr>
        <p:blipFill>
          <a:blip r:embed="rId1"/>
          <a:stretch/>
        </p:blipFill>
        <p:spPr>
          <a:xfrm>
            <a:off x="228600" y="1447920"/>
            <a:ext cx="3967200" cy="23857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ersonal websit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assroom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ub websit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aculty group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vate group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udy group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utor room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2" name="Picture 5" descr="studentcomputers.jpg"/>
          <p:cNvPicPr/>
          <p:nvPr/>
        </p:nvPicPr>
        <p:blipFill>
          <a:blip r:embed="rId2"/>
          <a:stretch/>
        </p:blipFill>
        <p:spPr>
          <a:xfrm>
            <a:off x="457200" y="3886200"/>
            <a:ext cx="350532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assroom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28240" y="1600200"/>
            <a:ext cx="47242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ass websit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vide assignments and resources for course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vide online tests and quizz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ost grade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e reports based on student results for future instruc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Rcampus Classroom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http://www.rcampus.com/fsitehomeshellc.cfm?id=61947&amp;rt=8&amp;view=&amp;sms=home&amp;xsite=annemancl&amp;nocache=1301267400178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Content Placeholder 5" descr="Grade_charts_reflect.jpg"/>
          <p:cNvPicPr/>
          <p:nvPr/>
        </p:nvPicPr>
        <p:blipFill>
          <a:blip r:embed="rId2"/>
          <a:stretch/>
        </p:blipFill>
        <p:spPr>
          <a:xfrm>
            <a:off x="5410080" y="1523880"/>
            <a:ext cx="2951280" cy="49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ortfoli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7" name="Picture 3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4343400" cy="495288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 txBox="1"/>
          <p:nvPr/>
        </p:nvSpPr>
        <p:spPr>
          <a:xfrm>
            <a:off x="4495680" y="1447920"/>
            <a:ext cx="46483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Portfolio Build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nline submission of assignments to teacher gradebook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ultimedia upload capabi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iscussion board for reviews and evaluat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alendar to track activities and progres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ife-long ownership for studen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RCampus ePortfolio: </a:t>
            </a:r>
            <a:r>
              <a:rPr b="0" lang="en-US" sz="17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http://www.rcampus.com/EPortfoliohomeshellc.cfm?xsite=lcpage11.W69038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ubric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600200"/>
            <a:ext cx="4114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arch by subject, type, and grad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uild, manage, share, and print rubric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2Grade Technology into gradeboo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nalyze assessment resul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(Link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Content Placeholder 4" descr="Rubric_Collaborate_sm.gif"/>
          <p:cNvPicPr/>
          <p:nvPr/>
        </p:nvPicPr>
        <p:blipFill>
          <a:blip r:embed="rId1"/>
          <a:stretch/>
        </p:blipFill>
        <p:spPr>
          <a:xfrm>
            <a:off x="4952880" y="1981080"/>
            <a:ext cx="3743280" cy="20894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Rubric_Coursework_sm.gif"/>
          <p:cNvPicPr/>
          <p:nvPr/>
        </p:nvPicPr>
        <p:blipFill>
          <a:blip r:embed="rId2"/>
          <a:stretch/>
        </p:blipFill>
        <p:spPr>
          <a:xfrm>
            <a:off x="4897440" y="4267080"/>
            <a:ext cx="4246560" cy="15145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" descr="iRubric, Point and Click"/>
          <p:cNvPicPr/>
          <p:nvPr/>
        </p:nvPicPr>
        <p:blipFill>
          <a:blip r:embed="rId3"/>
          <a:stretch/>
        </p:blipFill>
        <p:spPr>
          <a:xfrm>
            <a:off x="1066680" y="5562720"/>
            <a:ext cx="2438640" cy="9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Student, Faculty, and Group Website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0" y="1295280"/>
            <a:ext cx="49528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RCampus Club Website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onstantia"/>
              </a:rPr>
              <a:t>http://www.rcampus.com/clubhomeshellc.cfm?id=61294&amp;rt=5&amp;view=&amp;sms=home&amp;xsite=ohioelite</a:t>
            </a: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RCampus Faculty Group Website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onstantia"/>
              </a:rPr>
              <a:t>http://www.rcampus.com/sighomeshellc.cfm?id=64570&amp;rt=6&amp;view=&amp;sms=home&amp;xsite=pestech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ultipage websites that can be created by students, classes, school groups, and faculty group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mbine and enhance the features we are currently provided with through Infinite Campus and School Strea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1" descr=""/>
          <p:cNvPicPr/>
          <p:nvPr/>
        </p:nvPicPr>
        <p:blipFill>
          <a:blip r:embed="rId1"/>
          <a:stretch/>
        </p:blipFill>
        <p:spPr>
          <a:xfrm>
            <a:off x="152280" y="1905120"/>
            <a:ext cx="4496040" cy="34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utoring and Suppor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1066320"/>
            <a:ext cx="30481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ost tutoring a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nd a tuto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nage a tutor profi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utor room build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1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5945040" cy="51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ferenc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oung, J., Birtolo, P., &amp; McElman, R. (2009). Virtual success: Transforming education through online learning.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Learning &amp; Leading with Technology,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36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5), 12–17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7T16:20:25Z</dcterms:created>
  <dc:creator>MZE</dc:creator>
  <dc:description/>
  <dc:language>en-US</dc:language>
  <cp:lastModifiedBy>MZE</cp:lastModifiedBy>
  <dcterms:modified xsi:type="dcterms:W3CDTF">2011-03-28T01:05:23Z</dcterms:modified>
  <cp:revision>36</cp:revision>
  <dc:subject/>
  <dc:title>Learning Management Systems</dc:title>
</cp:coreProperties>
</file>